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B8D96-A774-4073-AC8B-1E4FDC428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DDF19-097B-4026-9F2F-DCA5D6083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D9828-302D-44D9-BC5B-EA7787A74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4FCBF-2D8B-40F0-847F-7EA966EE7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7BC82-4E3D-4C9C-B4EC-0E2320DBC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F0700-66BA-4399-A6C7-8E0CDD6EB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90E6B-4207-4B5B-B82C-1D82197FC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8661C-7393-4C65-BD7E-D53EEEDB7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42E0E-FD27-48E7-B512-975644B4A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37C57-4881-4F6F-9E37-7B38AF053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C66FD-662E-49BD-B66C-A151DDC8D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E4A08-BD74-4E59-A3D8-4447F8452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8763C-B03D-4D9B-9668-CEE2752E1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50B85-3071-4741-B5B3-0E9F592F7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8A6F5-C294-435F-BF79-AC214CA55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793CA-E277-442E-AB02-716B75196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59DF7-582D-4D9F-9A78-DA8D13AC7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9D1C8-94A6-4E2C-82DC-866DE1B7A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5BDEB-B8B2-4F12-8052-8BD190706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205BF-B2B4-45BB-BBDE-AC4FBA3E4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85854-F03B-405A-BEC3-88266B8DD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77855-AE18-40F0-8A27-4423EE3B8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38CF1-692E-499C-93A7-98FD7BB22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DBD3F-2B60-49E3-9ACD-43EAB1B0C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BBF75-71C5-470B-8603-401F518802D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3DEEE-3669-47AC-A3CB-B8056A4B2AD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IS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y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X.75 used to interconnect X.25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not often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P domina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sponds to datagram mechanism in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NPDU treated sepa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 protocol common to all DTE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n generically as the internet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uch internet protocol developed for ARPA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1 (Get it and study 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 protocol needed to access particula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unnecessary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order of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can take different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 is responsibility of next layer up (e.g. 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4920"/>
          <a:stretch/>
        </p:blipFill>
        <p:spPr>
          <a:xfrm>
            <a:off x="3832200" y="0"/>
            <a:ext cx="5311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Iss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and routers maintain routing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 next router to which datagram should be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contain alternative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exible response to congestion and err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 specifies route as sequential list of routers to be follow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Lifet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s could loop indefini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umes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protocol may need upper bound on datagram lif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marked with lifetim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Live field in 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lifetime expires, datagram discarded (not forward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p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rement time to live on passing through a each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know how long since last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Aside: compare with Logan’s Ru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-assembl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packet siz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o re-asse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ults in packets getting smaller as data traverses intern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mediate re-assemb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large buffers at rou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may fill with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fragments must go through sam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hibits dynamic rout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re-assembles at destination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fields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Unit Identifier (I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dentifies end system originated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urce and destination addre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tocol layer generating data (e.g. TC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entification supplied by that lay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ngth of user data in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f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ition of fragment of user data in original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multiples of 64 bits (8 octe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o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that this is not the last frag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y that provides data transfer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ion of communications networks interconnected by bridges and/or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Internet - note upper cas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lobal collection of thousands of individual machines and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a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porate internet operating within th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(TCP/IP and http)technology to deliver documents and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5706"/>
          <a:stretch/>
        </p:blipFill>
        <p:spPr>
          <a:xfrm>
            <a:off x="1295280" y="1371600"/>
            <a:ext cx="579132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aling with Fail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may fail if some fragments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detect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time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ed to first fragment to arr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out expires before all fragments arrive, discard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acket lifetime (time to live in 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 to live runs out, kill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should attempt to inform source if packet discarde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or time to live expi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y modify 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form high lay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identification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Look up IC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routers and/or stations to limit rate of incomin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in connection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low contro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esting reduced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IC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Protocol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 of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interface with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protocol format and mechanis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iti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s to be perform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m of primitive implementation 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ubroutine ca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 transmission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ify user of arrival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pass data and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ipient 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treatment of data unit during transmission through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, destination address and user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quely identifies PD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ed for re-assembly and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’t fragment indic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IP fragment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, may not be possible to 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 of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sta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(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attached to one of the networks of an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end-user applications or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System (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used to connect two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communication between end systems attached to different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20006"/>
          <a:stretch/>
        </p:blipFill>
        <p:spPr>
          <a:xfrm>
            <a:off x="533520" y="1801800"/>
            <a:ext cx="8001000" cy="38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ly 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v6 - 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header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32 bit wo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op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tal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datagram, in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with addresses and user protocol to identify datagram uniqu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’t fra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higher layer to receive data field 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verified and recomputed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ones complement sum of all 16 bit words in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o zero during calc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d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fill to multiple of 32 bi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s user data from next layer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er multiple of 8 bits long (oct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length of datagram (header plus data) 65,535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2 bit global interne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rt and host p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with binary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0 reser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1111111 (127) reserved for loop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1.x.x.x to 126.x.x.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28.x.x.x to 191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ctet also included in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16,384 class B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92.x.x.x to 223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and third octet also part of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2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2,097,152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arly 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IPv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nets and Subnet M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arbitrary complexity of internetworked LANs within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ulate overall internet from growth of network numbers and routing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te looks to rest of internet like sing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N assigned subne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portion of address partitioned into subnet number and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routers route within subnet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net mask indicates which bits are subnet number and which are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Using Subn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rcRect l="0" t="0" r="0" b="8387"/>
          <a:stretch/>
        </p:blipFill>
        <p:spPr>
          <a:xfrm>
            <a:off x="990720" y="1371600"/>
            <a:ext cx="7086600" cy="53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used to connect two LANs using similar LAN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filter passing on packets to the required network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2 (Data Lin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two (possibly dissimilar)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protocol present in each router and en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3 (Networ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Control Message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92 (get it and study 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(control) messages from routers and hosts to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back about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ime to live exp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in IP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 Messag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685800" y="1371600"/>
            <a:ext cx="7391520" cy="53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- Version Num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 1-3 defined and repl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4 - curr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5 - streams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6 - replacement for IP v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development it was called IP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Change IP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space exhau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level addressing (network and host) wastes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es used even if not connected to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wth of networks and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ed use of 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ddress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for new typ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RF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752 - Recommendations for the IP Next Generat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60 - Overal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373 - addressing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(find the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anded address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8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option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optional headers between IPv6 header and transport layer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are not examined by intermediate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roved speed and simplified router process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sier to extend op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auto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 assignment of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Enhanc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addressing 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cast - delivered to one of a set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scalability of multicast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resource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s type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beling of packets to particular traffic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926"/>
          <a:stretch/>
        </p:blipFill>
        <p:spPr>
          <a:xfrm>
            <a:off x="1874880" y="1371600"/>
            <a:ext cx="48308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nsion Head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p-by-Hop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processing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v4 source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ng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destination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rcRect l="0" t="0" r="0" b="12234"/>
          <a:stretch/>
        </p:blipFill>
        <p:spPr>
          <a:xfrm>
            <a:off x="914400" y="1447920"/>
            <a:ext cx="7543800" cy="47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27584"/>
          <a:stretch/>
        </p:blipFill>
        <p:spPr>
          <a:xfrm>
            <a:off x="533520" y="1886040"/>
            <a:ext cx="784836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la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es or priorit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RFC 246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Lab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hosts requesting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extension headers plus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type of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sion or next layer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2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igned to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interface may have multiple un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types of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addr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 (typically different no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ny on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eare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ll interfaces identif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op-by-Hop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mbo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ver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65,535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 ale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lls the router that the contents of this packet is of interest to th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support for RSPV (chapter 16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nly allowed at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gmentation at intermediate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must perform path discovery to find smallest MTU of intermediat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fragments to matc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wise limit to 1280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fl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one or more intermediate nodes to b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lef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umber of nodes still to be vis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tination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as Hop-by-Hop options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that refer to group of hosts on one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media “broadca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comp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work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of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physical and link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nd delivery of data between processes on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ounting services and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architect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240000" y="0"/>
            <a:ext cx="590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and Multiple Un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cast a copy of packet to eac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13 cop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packet only to networks that have hosts i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ue Mult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least cost path to each network that has host in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spanning tree configuration containing networks with group mem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single packet along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replicate packets at branch points of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rcRect l="0" t="0" r="0" b="18645"/>
          <a:stretch/>
        </p:blipFill>
        <p:spPr>
          <a:xfrm>
            <a:off x="457200" y="1447920"/>
            <a:ext cx="815328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ay have to forward more than one copy of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ntion needed to identify mult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4 - Class D - start 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6 - 8 bit prefix, all 1, 4 bit flags field, 4 bit scope field, 112 bit group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ust translate between IP multicast addresses and list of networks containing group me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ust translate between IP multicast address and network multicas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sm required for hosts to join and leave multicast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exchange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networks include members of give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icient info to work out shortest path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 to work out shortest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must determine routing paths based on source and destinatio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Group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and router exchange of multicast group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oadcast LAN to transfer info among multiple host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42221"/>
          <a:stretch/>
        </p:blipFill>
        <p:spPr>
          <a:xfrm>
            <a:off x="533520" y="2765520"/>
            <a:ext cx="807696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- query sent by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 - report sent by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in reques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id group address in repor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join a group, hosts sends repor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 address of group to jo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IP datagram to same multicast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hosts in group receive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listen to all multicast addresses to hear all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periodically issue reques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-hosts mult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hat want to stay in groups must read all-hosts messages and respond with report for each group it is 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rchitecture Fea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ou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repor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ased or 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oup Membership in IPv6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 of IGMP included in ICMP 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group membership termination message to allow host to leave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S. Internetworking with TCP/IP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ume 1, Prentice-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RFCs mentioned plus any others connected with these top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Web sites on TCP/IP and IP version 6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chitectural Approa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that each network is 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connect two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ppear as DTE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connection set up between D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catenation of logical connections across networ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 network virtual circuits joined by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quire enhancement of local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02, FDDI are datagram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9T09:42:53Z</dcterms:created>
  <dc:creator>Adrian &amp; Wendy</dc:creator>
  <dc:description/>
  <dc:language>en-US</dc:language>
  <cp:lastModifiedBy>Adrian &amp; Wendy</cp:lastModifiedBy>
  <dcterms:modified xsi:type="dcterms:W3CDTF">1999-10-29T15:30:18Z</dcterms:modified>
  <cp:revision>53</cp:revision>
  <dc:subject/>
  <dc:title>William Stallings Data and Computer Communications</dc:title>
</cp:coreProperties>
</file>